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32C2-99C8-4664-A680-1CEDF2880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2782-EBD2-4C23-B3E8-96DDB71E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01B0-066F-4200-92D7-79FC39501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3540-016B-4CE8-9DEE-040763D84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3D2D5-92E7-4EDF-9998-6E2995659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A84C2-A27B-4BB5-B819-9BDA733B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52471-BF79-44E7-91E5-2EEBE574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5C11C-6ABA-4C1D-B7D3-E587781D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8764B-F874-4D8C-B555-3625F2FC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49981-4068-4ED3-B5A8-6231C267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A5BD5-D609-4422-AB70-11B25EB1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03FC-A620-4231-868A-78B7C2A9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3F5FC-9EA9-41D6-B81C-1B7BF9B7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7F6D0-5FE4-4987-9007-767709AC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B055A-3E18-4831-97C3-1EE08C80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A5BD1-E33D-4D4D-A162-31B58155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35F4A-0FE1-4077-8703-7EFBFE62E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8A7B-FDA7-4021-BB09-AE3B12FB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6B95-A24A-4156-A4BD-85D0A074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EF87-88B8-4A92-8DAC-E2F54051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66E9-1AE6-4F5F-9650-A729E1BB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B355-EBA2-47EE-BD82-57267DF9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517B-9DC4-4F9B-A404-BE362312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E563-0D19-4701-9585-9BB0D88E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cccc"/>
              </a:buClr>
              <a:buSzPct val="12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31480" indent="-226080">
              <a:spcBef>
                <a:spcPts val="799"/>
              </a:spcBef>
              <a:buClr>
                <a:srgbClr val="33cccc"/>
              </a:buClr>
              <a:buSzPct val="12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36520" indent="-226080">
              <a:spcBef>
                <a:spcPts val="799"/>
              </a:spcBef>
              <a:buClr>
                <a:srgbClr val="33cc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5000-6119-4465-8926-B17FEDADC9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cccc"/>
              </a:buClr>
              <a:buSzPct val="12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31480" indent="-226080">
              <a:spcBef>
                <a:spcPts val="799"/>
              </a:spcBef>
              <a:buClr>
                <a:srgbClr val="33cccc"/>
              </a:buClr>
              <a:buSzPct val="12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36520" indent="-226080">
              <a:spcBef>
                <a:spcPts val="799"/>
              </a:spcBef>
              <a:buClr>
                <a:srgbClr val="33cc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19C0-5F22-4BCF-B8FD-AD0F186FAE3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entury Schoolbook"/>
              </a:rPr>
              <a:t>«Огнедышащие горы»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733560" y="5409720"/>
            <a:ext cx="5181480" cy="1295640"/>
          </a:xfrm>
          <a:prstGeom prst="rect">
            <a:avLst/>
          </a:prstGeom>
          <a:solidFill>
            <a:srgbClr val="897c1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Schoolbook"/>
              </a:rPr>
              <a:t>Выполнила Болдырева Мария Андреевна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Schoolbook"/>
              </a:rPr>
              <a:t>(Сыктывкар,2010год)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Schoolbook"/>
              </a:rPr>
              <a:t>                         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                   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entury Schoolbook"/>
              </a:rPr>
              <a:t>               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«Что есть энергия ?»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4419720" y="2286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WordArt 11"/>
          <p:cNvSpPr txBox="1"/>
          <p:nvPr/>
        </p:nvSpPr>
        <p:spPr>
          <a:xfrm>
            <a:off x="1905120" y="685800"/>
            <a:ext cx="581004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Основной вопрос проект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Century Schoolbook"/>
              </a:rPr>
              <a:t>Вопросы</a:t>
            </a:r>
            <a:r>
              <a:rPr b="0" lang="ru-RU" sz="2800" spc="-1" strike="noStrike">
                <a:solidFill>
                  <a:srgbClr val="0000ff"/>
                </a:solidFill>
                <a:latin typeface="Century Schoolbook"/>
              </a:rPr>
              <a:t>, которые мы не оставим без ответов</a:t>
            </a: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752480"/>
            <a:ext cx="82296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cc"/>
              </a:buClr>
              <a:buSzPct val="12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entury Schoolbook"/>
              </a:rPr>
              <a:t>Что такое вулкан?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SzPct val="12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entury Schoolbook"/>
              </a:rPr>
              <a:t>Всегда ли из вулканов изливается лава?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SzPct val="12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entury Schoolbook"/>
              </a:rPr>
              <a:t>Все ли извержения вулканов одинаковы?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SzPct val="12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entury Schoolbook"/>
              </a:rPr>
              <a:t>Как образуются вулканы?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SzPct val="12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entury Schoolbook"/>
              </a:rPr>
              <a:t>Какое извержение было самым страшным?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SzPct val="12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entury Schoolbook"/>
              </a:rPr>
              <a:t>Где находится большинство вулканов?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SzPct val="12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entury Schoolbook"/>
              </a:rPr>
              <a:t>Какие районы земного шара мы можем назвать сейсмически и вулканически активными?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                  </a:t>
            </a:r>
            <a:r>
              <a:rPr b="0" lang="ru-RU" sz="3200" spc="-1" strike="noStrike">
                <a:solidFill>
                  <a:srgbClr val="3366ff"/>
                </a:solidFill>
                <a:latin typeface="Century Schoolbook"/>
              </a:rPr>
              <a:t>Методические задачи: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12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entury Schoolbook"/>
              </a:rPr>
              <a:t>расширить и углубить знания о вулканах и их строении, познакомить с географией их размещения; 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12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entury Schoolbook"/>
              </a:rPr>
              <a:t>выявить причины возникновения вулканов, гейзеров и горячих источников; 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12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entury Schoolbook"/>
              </a:rPr>
              <a:t>развивать умения сравнивать, анализировать, делать выводы;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12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entury Schoolbook"/>
              </a:rPr>
              <a:t>формировать представлений о профессиях, связанных с науками географического направления, заинтересованное отношение к учебе.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Century Schoolbook"/>
              </a:rPr>
              <a:t>Предоставление результатов исследования: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SzPct val="12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entury Schoolbook"/>
              </a:rPr>
              <a:t>Журнал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SzPct val="12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entury Schoolbook"/>
              </a:rPr>
              <a:t>Видеоклип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SzPct val="12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entury Schoolbook"/>
              </a:rPr>
              <a:t>Информационный буклет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SzPct val="12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entury Schoolbook"/>
              </a:rPr>
              <a:t>Эссе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SzPct val="12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entury Schoolbook"/>
              </a:rPr>
              <a:t>Творческое задание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SzPct val="12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entury Schoolbook"/>
              </a:rPr>
              <a:t>Фоторепортаж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SzPct val="12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Century Schoolbook"/>
              </a:rPr>
              <a:t>Продолжительность проекта.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66"/>
              </a:solidFill>
              <a:latin typeface="Century Schoolbook"/>
            </a:endParaRPr>
          </a:p>
        </p:txBody>
      </p:sp>
      <p:sp>
        <p:nvSpPr>
          <p:cNvPr id="97" name="Овальная выноска 3"/>
          <p:cNvSpPr/>
          <p:nvPr/>
        </p:nvSpPr>
        <p:spPr>
          <a:xfrm>
            <a:off x="3581280" y="4267080"/>
            <a:ext cx="2057400" cy="1524240"/>
          </a:xfrm>
          <a:prstGeom prst="wedgeEllipseCallout">
            <a:avLst>
              <a:gd name="adj1" fmla="val -30148"/>
              <a:gd name="adj2" fmla="val 77884"/>
            </a:avLst>
          </a:prstGeom>
          <a:solidFill>
            <a:srgbClr val="33ccff"/>
          </a:solidFill>
          <a:ln w="25560">
            <a:solidFill>
              <a:srgbClr val="bc4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entury Schoolbook"/>
              </a:rPr>
              <a:t>7 час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Century Schoolbook"/>
              </a:rPr>
              <a:t>Этапы проведения проекта: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182844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entury Schoolbook"/>
              </a:rPr>
              <a:t>Выбор и формулировка темы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entury Schoolbook"/>
              </a:rPr>
              <a:t>Поиск информации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entury Schoolbook"/>
              </a:rPr>
              <a:t>Самостоятельная работа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entury Schoolbook"/>
              </a:rPr>
              <a:t>Защита проекта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Стрелка вниз 3"/>
          <p:cNvSpPr/>
          <p:nvPr/>
        </p:nvSpPr>
        <p:spPr>
          <a:xfrm>
            <a:off x="4343400" y="2590920"/>
            <a:ext cx="484200" cy="609480"/>
          </a:xfrm>
          <a:prstGeom prst="downArrow">
            <a:avLst>
              <a:gd name="adj1" fmla="val 50000"/>
              <a:gd name="adj2" fmla="val 50035"/>
            </a:avLst>
          </a:prstGeom>
          <a:solidFill>
            <a:srgbClr val="33ccff"/>
          </a:solidFill>
          <a:ln w="25560">
            <a:solidFill>
              <a:srgbClr val="bc4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Стрелка вниз 4"/>
          <p:cNvSpPr/>
          <p:nvPr/>
        </p:nvSpPr>
        <p:spPr>
          <a:xfrm>
            <a:off x="4419720" y="4191120"/>
            <a:ext cx="484200" cy="609480"/>
          </a:xfrm>
          <a:prstGeom prst="downArrow">
            <a:avLst>
              <a:gd name="adj1" fmla="val 50000"/>
              <a:gd name="adj2" fmla="val 50035"/>
            </a:avLst>
          </a:prstGeom>
          <a:solidFill>
            <a:srgbClr val="33ccff"/>
          </a:solidFill>
          <a:ln w="25560">
            <a:solidFill>
              <a:srgbClr val="bc4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Стрелка вниз 10"/>
          <p:cNvSpPr/>
          <p:nvPr/>
        </p:nvSpPr>
        <p:spPr>
          <a:xfrm>
            <a:off x="4495680" y="5486400"/>
            <a:ext cx="484200" cy="52056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33ccff"/>
          </a:solidFill>
          <a:ln w="25560">
            <a:solidFill>
              <a:srgbClr val="bc4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Century Schoolbook"/>
              </a:rPr>
              <a:t>Информационные ресурсы.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entury Schoolbook"/>
              </a:rPr>
              <a:t>Материалы на печатной основе: </a:t>
            </a:r>
            <a:r>
              <a:rPr b="0" lang="ru-RU" sz="2400" spc="-1" strike="noStrike">
                <a:solidFill>
                  <a:srgbClr val="0000ff"/>
                </a:solidFill>
                <a:latin typeface="Century Schoolbook"/>
              </a:rPr>
              <a:t>учебники, методические пособия, справочники, энциклопедии, журналы.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ксандр</dc:creator>
  <dc:description/>
  <dc:language>en-US</dc:language>
  <cp:lastModifiedBy>Александр</cp:lastModifiedBy>
  <dcterms:modified xsi:type="dcterms:W3CDTF">2010-04-01T17:44:40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